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B0C-E56F-4013-AC99-01ED5DF9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C92-E909-4881-BBF8-173EE3BE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69D-426F-47A2-94C6-D4C3241E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33B-3CDA-49E7-9FC3-FA17DC46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547-B5B6-44EA-A13C-0C6602D9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67F-D0E2-416A-A0C8-C92D83E3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077-E3D0-4184-AC40-65E664CF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499-57FD-454F-8B22-762557DA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F08-4159-4BDC-BA64-B5548934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F87-148C-4B6E-BEAF-1C60A94E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EAD-AFCA-4BCB-854D-2A3A1E3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013-6A7A-4A2E-86C9-9323EF89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C354-DCDD-4BE0-934C-C6FF68B11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981000"/>
          <a:ext cx="2303280" cy="3764160"/>
        </p:xfrm>
        <a:graphic>
          <a:graphicData uri="http://schemas.openxmlformats.org/drawingml/2006/table">
            <a:tbl>
              <a:tblPr/>
              <a:tblGrid>
                <a:gridCol w="503280"/>
                <a:gridCol w="360360"/>
                <a:gridCol w="287280"/>
                <a:gridCol w="431640"/>
                <a:gridCol w="289080"/>
                <a:gridCol w="431640"/>
              </a:tblGrid>
              <a:tr h="33660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P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me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8480">
                <a:tc rowSpan="20">
                  <a:txBody>
                    <a:bodyPr lIns="18000" rIns="18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ES HISTÓRIC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01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-04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-07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-10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04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-07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-10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01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-04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07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-10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04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07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10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-06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-10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04292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alores Hist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83664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59280" y="981000"/>
          <a:ext cx="2592360" cy="1943280"/>
        </p:xfrm>
        <a:graphic>
          <a:graphicData uri="http://schemas.openxmlformats.org/drawingml/2006/table">
            <a:tbl>
              <a:tblPr/>
              <a:tblGrid>
                <a:gridCol w="505080"/>
                <a:gridCol w="576000"/>
                <a:gridCol w="503280"/>
                <a:gridCol w="504720"/>
                <a:gridCol w="503280"/>
              </a:tblGrid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A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O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IE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.Est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16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 m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m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059280" y="32846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culo de índice de estacio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84720" y="981000"/>
          <a:ext cx="622080" cy="3500640"/>
        </p:xfrm>
        <a:graphic>
          <a:graphicData uri="http://schemas.openxmlformats.org/drawingml/2006/table">
            <a:tbl>
              <a:tblPr/>
              <a:tblGrid>
                <a:gridCol w="622080"/>
              </a:tblGrid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 s/es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9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9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0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4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1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4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9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2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87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8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24360" y="33336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alores Históricos sin estacio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62064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2492280"/>
            <a:ext cx="1511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356000" y="242100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92360" y="836640"/>
          <a:ext cx="1841400" cy="5268960"/>
        </p:xfrm>
        <a:graphic>
          <a:graphicData uri="http://schemas.openxmlformats.org/drawingml/2006/table">
            <a:tbl>
              <a:tblPr/>
              <a:tblGrid>
                <a:gridCol w="330120"/>
                <a:gridCol w="432000"/>
                <a:gridCol w="287280"/>
                <a:gridCol w="288720"/>
                <a:gridCol w="503280"/>
              </a:tblGrid>
              <a:tr h="11232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CIÓN NORM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12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E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7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CIÓN PLANE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9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6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20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CIÓN PLANES DESCONTAMINACIÓN / PRVENCIÓ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6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780000" y="404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alores Proyectados Sin Esta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51280" y="69228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3640" y="836640"/>
          <a:ext cx="525600" cy="5184360"/>
        </p:xfrm>
        <a:graphic>
          <a:graphicData uri="http://schemas.openxmlformats.org/drawingml/2006/table">
            <a:tbl>
              <a:tblPr/>
              <a:tblGrid>
                <a:gridCol w="525600"/>
              </a:tblGrid>
              <a:tr h="1173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4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3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4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7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8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9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4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635280" y="386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285264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Valores Proyectados Con Esta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1844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X Coeficiente     Estacionalida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1341360"/>
            <a:ext cx="144360" cy="136692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177336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álculo de Percentil 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940360" y="3357720"/>
          <a:ext cx="504720" cy="276696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14256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es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 Norm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64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04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9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77080" y="3357720"/>
          <a:ext cx="503280" cy="2806560"/>
        </p:xfrm>
        <a:graphic>
          <a:graphicData uri="http://schemas.openxmlformats.org/drawingml/2006/table">
            <a:tbl>
              <a:tblPr/>
              <a:tblGrid>
                <a:gridCol w="503280"/>
              </a:tblGrid>
              <a:tr h="18828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cia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ámetr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4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2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7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4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78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3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4653000"/>
            <a:ext cx="215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4653000"/>
            <a:ext cx="21600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4:26:58Z</dcterms:created>
  <dc:creator>Jorge Ortiz</dc:creator>
  <dc:description/>
  <dc:language>en-US</dc:language>
  <cp:lastModifiedBy>Jorge Ortiz</cp:lastModifiedBy>
  <dcterms:modified xsi:type="dcterms:W3CDTF">2005-12-08T20:09:56Z</dcterms:modified>
  <cp:revision>7</cp:revision>
  <dc:subject/>
  <dc:title>Diapositiva 1</dc:title>
</cp:coreProperties>
</file>